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2BBB-9346-455A-9722-607B6C7278A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ED91-4EBF-413E-8BCD-249EC1DD001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40D4-6AF1-415D-9EB0-B98493CFF59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9448-D33A-4616-801F-2C2591587BA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9452-0292-4970-87DD-C91B3B856BB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1E9B-96C7-4DD8-A396-DC9C30CE97E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CF21-0A73-414E-B734-1D301E90D4D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8A57-98F6-4E28-AA69-3F902C80EAF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3AC6-C7BF-4780-A35A-6809BC21E4E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73AA-D90C-4FDF-8C13-426D3C7CA62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3108-F8B2-4B9D-9965-FBA7569085D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EBCC-CDF4-4C66-AB16-7E70A567319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12C0-4EA8-431B-A3C1-74789BFD624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54B5-07C0-4FBE-8753-3E2A75B0D9F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451F-80E1-44C8-AD4F-65EFF599845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BE88-4E9F-4A55-B74A-8E09B1C9EBD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EA7D-3572-47B8-89EF-B2C3F0A5BF9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08B1-1945-4D1B-8F96-3A38EF89C3C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6B3D-0977-4253-B2DA-4F71BE10FF3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E463-39CB-48D6-9F50-1790020252D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9308-98EF-425F-8FBA-02BA64ABFC9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0D78-DC1D-467E-A64C-C5006D4D13E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D165-9471-4DE4-A176-DBB4BE9F2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8FDF-F74E-4F42-B247-4D36608B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7F45-0309-480D-8519-C55309223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879C-B6D2-488F-BCCA-C123672E1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A1C3-2DF6-4B01-AF2C-1637559B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D5E4-01B0-4C55-B1D1-8F473EB2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40EB-BFFF-4BEE-9B92-7B308E40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69E4-E8E7-4F58-B7AD-B21CED04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708D-5A8A-4F94-88D0-6D1E7837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9E07-8461-498A-B64A-2CE5AAED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EE43-2A1E-404E-9661-6F2F7BFB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6E07-1CF3-41E4-BFEE-BEF2FB7F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16BC-4AC0-4F52-8D6D-CBD3FB6B2262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春节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hūnjié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중국 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问好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wènhǎo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안부를 묻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父母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fùmǔ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부모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赶快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gǎnkuài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어서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빨리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寒假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hánjià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겨울방학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旅游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ǚyó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여행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新年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īnniá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새해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过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uò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보내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得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조사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开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āixī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기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时候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ího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快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uà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곧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对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du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에 대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非常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502320"/>
            <a:ext cx="62643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Arial"/>
              </a:rPr>
              <a:t>fēicháng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매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到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à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4865400"/>
            <a:ext cx="638172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5500" spc="-1" strike="noStrike">
                <a:solidFill>
                  <a:srgbClr val="000000"/>
                </a:solidFill>
                <a:latin typeface="Arial"/>
              </a:rPr>
              <a:t>시간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5500" spc="-1" strike="noStrike">
                <a:solidFill>
                  <a:srgbClr val="000000"/>
                </a:solidFill>
                <a:latin typeface="Arial"/>
              </a:rPr>
              <a:t>기간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5500" spc="-1" strike="noStrike">
                <a:solidFill>
                  <a:srgbClr val="000000"/>
                </a:solidFill>
                <a:latin typeface="Arial"/>
              </a:rPr>
              <a:t>날짜가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ko-KR" sz="5500" spc="-1" strike="noStrike">
                <a:solidFill>
                  <a:srgbClr val="000000"/>
                </a:solidFill>
                <a:latin typeface="Arial"/>
              </a:rPr>
              <a:t>되다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打算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ǎsua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할 계획이다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中国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64524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Zhōnggu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중국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跟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ē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와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과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家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āré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가족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过年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guòniá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설을 쇠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那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nà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그러면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00:39:43Z</dcterms:created>
  <dc:creator>System</dc:creator>
  <dc:description/>
  <dc:language>en-US</dc:language>
  <cp:lastModifiedBy>System</cp:lastModifiedBy>
  <dcterms:modified xsi:type="dcterms:W3CDTF">2014-01-27T01:19:55Z</dcterms:modified>
  <cp:revision>5</cp:revision>
  <dc:subject/>
  <dc:title>슬라이드 1</dc:title>
</cp:coreProperties>
</file>